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59A-02F1-48C5-B7B7-DC56DD5A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B05-6472-4084-9D10-11FB2A8F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2B935-13CB-4AC8-AADD-695C58A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8B54A-2288-4074-A283-A81E59AC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45FD6-29FE-4BAD-B4AC-BE0FDFEF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28A87-5391-41C0-AF1C-59B24BF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620A-01C4-4879-BAB1-D30D29D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68473-1EFE-46FC-ABCB-A1C5B2DD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A4966-F535-4C61-BC36-E88D7BD8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93BBA-E388-4EE6-8778-1581BBFF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A2D3C-F58D-49D3-90CB-3C245639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7F320-8B7C-4571-BD87-CA957332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2FD-877E-4CB8-8230-0136175D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FE246-88D5-44BE-A909-FAE1D5D9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16529-D8FE-4885-9B45-C5B628D9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A9B33-6939-45FF-A3E6-0362AD7B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2D57F-76D2-4F4E-9562-94C880D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63997-9116-463A-BA76-7EA26B74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37690-4C5E-47A8-8FC4-6D46D57E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42392-74D4-48C5-891A-D8BF238D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39CE5-5890-4B84-81F2-6E88EB6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B5C2F-4D0D-42C1-A022-AD4BC98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DDE37-A91D-4C3F-A2E0-75D3EB3C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2A5-907A-41B7-A35F-7AF97685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20C7C-A1D4-4249-A708-F507A00F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11317-DA37-47D3-B7B0-C4A30A2C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98E13-562F-4355-B2A6-84FBDAEF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596C8-CB9D-4844-952C-C086FC33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1DEBE-7B2A-45FC-9166-11C90428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6C373-C66C-4A23-A4F2-5C16B4D0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B94DA-61AE-4514-836E-349826C4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E139C-AFF9-43F5-9876-288B5F0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516B7-BEFA-4667-9CC4-A04F54E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7119-B8AB-4016-8CB8-9AA1E960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81C0-2CED-4DF3-AE8E-D58ABDA6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406B6-C8A7-4C40-980E-85150E32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90A59-1478-43F9-8DF5-7858C2BB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9468F-D391-4526-A458-0D7933BB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FAC3F-9E68-45FE-A8F3-799D3FF5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93404-9646-49F4-BBE9-2C2ADB08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2B0DE-64A7-4DBE-BEAD-BA79194B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3188B-ECFD-4F86-B161-DD86E089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BDF6D-6662-477D-B12F-992F4861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B1680-314A-43B7-A0BC-0373A356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58625-192E-4493-80A5-E63AFA0C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49A7-A775-42F4-860F-6827A2F4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255EF-0545-42CD-B79F-0956FB6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43311-42FD-438E-A4E2-415F724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DDFE4-E3BC-4C67-90A8-E6D90C77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DF72D-D147-417F-9B91-BE89A854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FEA7F-0BC1-4FD3-8109-00097094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501E-6B57-4C7B-9233-A34F8A51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6558-42A1-44F6-95D0-4DF48598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41AE-0129-48A9-9B51-D8B36FA3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61D7-951A-4C3D-A5A8-2EF03EC2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D473-D48D-40C7-89B0-C956F3C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7F3-27F7-48FD-8EBA-6475EE9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3FFD-F84C-4CAB-AA42-16C8FB3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0731-730D-4675-99BE-EBDAD597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80A6-7791-4A7A-B0E5-27C8F706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1868-6F2B-41CD-B430-B90CB725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734A-488A-447D-A9DE-FD0A1E15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7770-B0BB-4E69-B9C7-EA752412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2FB9-9D95-43DD-93DA-08030BBD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28270-44B7-4D48-A278-0AC627BC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361C-1B05-4DDA-9235-CC0D6F8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44BE1-4161-4162-96F9-6E3A513D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914-426A-45F8-8FEE-133C669D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A91BD-83DB-45DC-ACA4-34BAA474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70204-FF8F-4563-B98D-0F5AA7F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512E-BFAA-4EE0-A0A4-2300925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4E82-D534-418E-89CD-C37C336E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3E43-2AF6-4DC0-A880-D6A95ABF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4999-B835-4389-AEA8-BD8F2F28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CAC1D-3E61-46C7-ABBE-0EDCD55D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E3FBD-7C07-4C8E-BA65-410F25F5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481E-DDA6-4A85-AE72-0EB114B0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01D1-3C9B-4BB4-A6C6-A93FF8E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8FA-A93A-42D4-A127-15704D7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266D-4BB8-48AC-8A06-1ABC198B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88045-DF5D-4E13-ADA0-58119C8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5E59-483E-429A-AEA9-34E3A261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4E79-DC0D-4495-A25F-7CC38469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EA1F-0E9D-4C92-9D41-53EF6F2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8637-6266-4FB5-BE0E-2B89AFDD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F64D-5B15-44C5-966B-09DC37C5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232CF-19AE-4801-B0A2-04845A3A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BBAD-2C13-4593-A151-8C851F59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3D85F-639A-4D0A-BF9A-A3F44D48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3AE-39B2-4D96-87D2-DC2C4B3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0FEA-AE88-4B8F-A061-71737384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50AA5-EDF7-4A35-A7C4-A8C00905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02C82-91C2-4E69-AD56-56012F41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51D72-5A06-45A1-BA64-9DE70DCE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20C80-8687-4E52-8735-F651AD57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325C-78A0-4942-9263-F2B3B45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CB3BE-FB6D-4847-8AD3-CAF5F4AB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B7857-82F4-4B95-AA24-55137F0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073EB-BB16-4511-8C11-656B388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A49B-1BA9-4350-A40B-D1F0F17A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E4D-BE12-4FDE-85C5-F10A2C1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E643-B3F5-44DB-852F-318E3588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A91F0-F9C9-422E-8366-62A967E4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09A57-0A21-488F-B18C-ED4DD5F9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58D70-E886-479B-BCBA-42AAEE95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04D26-C4FF-4B76-B98A-874B5492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5AAE-A79F-41F0-AF6F-8DF4393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458DB-8EAB-4B2E-87C0-368B80B6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74F11-FD82-4D86-B3BC-6BEA58C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B61B7-4510-4AEC-AE75-E557F6B2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CFD4A-5E72-4028-9404-4373992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9F9-13AF-4E63-96A2-A9A545E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7DB41-12DF-49E7-873D-27BD1839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1F3B6-E6DB-4236-8DD4-C0D68000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2F7C2-DB5D-4891-A228-7F6111B9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6D012-E531-476D-9147-9ACEBFCD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30142-25AA-4B5E-8ED3-963B8093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A367D-B99B-4BF7-A0E3-5B467852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B317-1F60-40C6-8E2C-8B4CBC6B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DDADB-AEBC-4DEE-83E7-558E798E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F9D9-CD0D-4260-8B09-A7080204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91A6D-2D68-44D4-811C-B62BF5B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904-3871-47BE-AE9D-759612BE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46CF-A6C2-4C46-AA9C-0E70DE3C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B463-7D5A-4632-BD43-B8C072A6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82A1F-EC5A-4F11-9679-C0101215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E133-4C2B-40AC-AE85-18C341C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D676-409E-4443-9BCA-5E434EE8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C228B-5692-4609-8AEE-F62351EF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73E31-1A6B-4BA5-AD1C-B6ED78E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41910-7AF6-4A46-87BD-081BEE9E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396F5-AF59-4A16-B5C4-68ED0B6B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3CCF-7684-4BD9-9EB4-7C324C0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A09-EC09-4A4A-9EC8-0532B824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9B2CC-434A-49DD-995F-D1AE4F80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50E24-2776-4744-8052-7CB1B76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EBE6-7778-4075-8293-0F6408E9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74ED0-E589-49B4-B5B4-B356554A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A3731-EB4B-4B02-B776-C094C099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F05D4-B686-417D-BE62-C8B7AF69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B4B71-D939-4C51-A78C-DED40D4E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43318-4DCB-44D6-96EB-FFAC2C1A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8A3D1-82EF-41C3-A148-AC02644E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72D11-D0AF-420F-AE3D-B8474DA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E77AB-4415-4B44-8BD2-7E6F72AEC6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7BFA9-F63D-4766-A81A-4052A57CC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8D1CA4AF-8E29-45C5-8DAC-351E12E33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B3C11E-FEC8-4ECA-8E4C-0DFECA0F3B9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818B5-6835-4022-9DA5-6B57B0F39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5A594-8A1C-407F-8AF2-DE4F7A9015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21678-9347-4BC9-95C9-15DFCC9CB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42D2F-83CB-4E53-8CC4-19868F2B1A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6AF79-8DD3-4420-875A-5BCE70825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AC83B-9C81-4BF5-90E4-7586BFE221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802AF-63AA-4166-A0A8-56B4FAD89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3DA9B-7625-4BA6-9C03-75B6AA2D884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8B151-F489-4AF9-A64F-301205086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A0B34-281E-4100-97DA-ADF239875F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915FF-F07F-42AF-97FD-4B28A97F9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5D743-8B78-414C-80D8-731599892F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478062-9C82-4FBB-84CC-E271AE0D8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59948-0564-4F38-B75C-D366DE8B44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5A66F-FE8E-4EE7-A8C9-209BD6905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C1469-CAA4-4D20-B7A2-9302053B27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5D527-A9BB-48D6-BECD-2E5800C5C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29542-64C5-4D8F-9084-A9234C7DA2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4215C-69A4-4872-AE63-002DA3732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4FF18-21AC-4FC7-B771-0EB64857F3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EFE68-3313-4435-BEF4-2C0B344F7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8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96AA5-22B4-4CC3-91E5-528B27669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FDB00-C567-461A-959D-6AF9D8A03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FB74F-28D3-4A3B-A705-35B5B6573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2133F-2ABF-41B8-B47E-18C2F014B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37029-61D5-4C89-ACF1-60382E05D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18734-A3B8-4552-8038-9B7F99D56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F0BD8-3A0F-4F61-A0DC-F5A229AC7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64D86-9441-4529-AE1B-B81EA271E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A9091-F906-4F14-ACB6-1A0A637E6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79DB5-BCF2-4AF5-93BA-E4E3AC6A3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5B934-809B-46F1-8493-A3685BFDD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D4608-B591-46A0-9F0E-A5BCDF625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F5F32-5301-4D89-AB8D-891434A6F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FD2DE-FB69-4549-AC71-B06ED3F46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D0540-819A-4FCE-9C70-D9B5ACAC1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799D5-EB11-4DCB-A729-B271667D1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D8596-EFA6-4E50-9B48-43AAFB550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96651-12BE-4B35-88A7-0E89E1E80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1267F-DB6F-455B-8343-46FBC784A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BC582-D37A-4E9A-8801-5D8D453D4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0B784-7BEE-44CE-BF74-BDC5C4C0F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4E620-BE2E-44C6-9762-20F70080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53C5C-4603-4B00-8F5B-0E6F31D26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92F48-8C25-471B-ACD2-04B55A755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DE3A2-17FE-49C1-94BA-5CF0F47A5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69949-AE31-425E-B513-052454506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381F3-9371-4436-983B-C7A6BE33C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D07C9-3A2F-4494-B007-85EC82D96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59B72-0AE2-4AED-A052-AF288578F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A0E25-2455-4D5C-9A78-611E9D7C2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96840-4F87-40F1-AA02-1D71B14CD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4DEBC-8A7A-49AF-AE11-B5C0E7A56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A7978-374C-4834-8582-8A88D5841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04T07:21:41Z</dcterms:modified>
  <cp:revision>75</cp:revision>
  <dc:subject/>
  <dc:title>Titulní strana – Titulek</dc:title>
</cp:coreProperties>
</file>